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E727-08C7-42F9-8A3D-35E45556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B2A8-99EF-4ABC-96F9-FBD1D696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D422-3057-447E-8A81-F4F27CF6C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B4EB-65FA-4C37-8F17-BFBDFAE2A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4009-E995-4EF0-BB03-A02F132A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C0A7-23D4-4202-9D98-4C0C9A25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3C35-D229-4E68-8B7C-6E8FDA00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94B1-F080-4EAC-B894-A13A812A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BB30-C951-4577-8CB2-BC8EA635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7559-6900-482F-92CD-F8BC3A4B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4030-4D8E-4723-8FDD-E1F21EA6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1D8A-F9D4-48D8-B700-2592D850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B1EA-0043-4C76-A8E4-69DD25EB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3854-315E-4CEA-9755-9AB829D2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280C-D14F-49AB-9303-BEC4DED9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7063-3684-422D-9900-C25A38C3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9E98-D25B-4C66-B779-0541A0BB3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9723-AAD6-41E3-8FB0-A8DCC97B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A78D-3D9D-4BCF-A1F3-06755EA0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3264-DA61-4CA5-9254-D790EC60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7646-75D4-470D-A917-574498E9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29CE-FCC0-472F-93BE-FAFDC932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181E-132B-4966-A894-A686E296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AA37-B967-4DA5-BC5C-85B982F8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9204-8EDC-4638-8490-8AC6BB29229D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A0A7-ECB4-44E7-AE25-7A58058254B4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6781680" cy="103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100" spc="-1" strike="noStrike">
                <a:solidFill>
                  <a:srgbClr val="330066"/>
                </a:solidFill>
                <a:latin typeface="Arial"/>
              </a:rPr>
              <a:t>Twierdzenie sinusów</a:t>
            </a:r>
            <a:endParaRPr b="1" lang="en-US" sz="51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7" descr=""/>
          <p:cNvPicPr/>
          <p:nvPr/>
        </p:nvPicPr>
        <p:blipFill>
          <a:blip r:embed="rId1"/>
          <a:stretch/>
        </p:blipFill>
        <p:spPr>
          <a:xfrm>
            <a:off x="395280" y="3573360"/>
            <a:ext cx="3313080" cy="31068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00360" y="122400"/>
            <a:ext cx="350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0066"/>
                </a:solidFill>
                <a:latin typeface="Arial"/>
              </a:rPr>
              <a:t>Twierdzenie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611280" y="1773360"/>
            <a:ext cx="813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 dowolnym trójkącie stosunek długości boku do sinusa kąta przeciwległego jest wielkością stałą i  równą średnicy okręgu opisanego na tym trójkąc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8"/>
          <p:cNvSpPr/>
          <p:nvPr/>
        </p:nvSpPr>
        <p:spPr>
          <a:xfrm>
            <a:off x="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17"/>
              <p:cNvSpPr txBox="1"/>
              <p:nvPr/>
            </p:nvSpPr>
            <p:spPr>
              <a:xfrm>
                <a:off x="3419640" y="3933720"/>
                <a:ext cx="531792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42920" y="122400"/>
            <a:ext cx="33577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0066"/>
                </a:solidFill>
                <a:latin typeface="Arial"/>
              </a:rPr>
              <a:t>Dowód cz.1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2664000" cy="24969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6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5"/>
              <p:cNvSpPr txBox="1"/>
              <p:nvPr/>
            </p:nvSpPr>
            <p:spPr>
              <a:xfrm>
                <a:off x="4788000" y="2492280"/>
                <a:ext cx="294300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Text Box 7"/>
          <p:cNvSpPr/>
          <p:nvPr/>
        </p:nvSpPr>
        <p:spPr>
          <a:xfrm>
            <a:off x="2843280" y="1773360"/>
            <a:ext cx="59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rzystamy z następującego wzoru na pole trójką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539640" y="33577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równujemy dwa dowolne pola trójkątów wykorzystując powyższy wzó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9"/>
              <p:cNvSpPr txBox="1"/>
              <p:nvPr/>
            </p:nvSpPr>
            <p:spPr>
              <a:xfrm>
                <a:off x="2556000" y="4221000"/>
                <a:ext cx="398124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Rectangle 12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11"/>
              <p:cNvSpPr txBox="1"/>
              <p:nvPr/>
            </p:nvSpPr>
            <p:spPr>
              <a:xfrm>
                <a:off x="3276720" y="5229360"/>
                <a:ext cx="25336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Rectangle 14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13"/>
              <p:cNvSpPr txBox="1"/>
              <p:nvPr/>
            </p:nvSpPr>
            <p:spPr>
              <a:xfrm>
                <a:off x="3564000" y="5661000"/>
                <a:ext cx="196200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42920" y="122400"/>
            <a:ext cx="33577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0066"/>
                </a:solidFill>
                <a:latin typeface="Arial"/>
              </a:rPr>
              <a:t>Dowód cz.2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7"/>
              <p:cNvSpPr txBox="1"/>
              <p:nvPr/>
            </p:nvSpPr>
            <p:spPr>
              <a:xfrm>
                <a:off x="338040" y="1197000"/>
                <a:ext cx="395136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8"/>
              <p:cNvSpPr txBox="1"/>
              <p:nvPr/>
            </p:nvSpPr>
            <p:spPr>
              <a:xfrm>
                <a:off x="1085760" y="2060640"/>
                <a:ext cx="24465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γ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19"/>
              <p:cNvSpPr txBox="1"/>
              <p:nvPr/>
            </p:nvSpPr>
            <p:spPr>
              <a:xfrm>
                <a:off x="1360440" y="2565360"/>
                <a:ext cx="190512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Text Box 21"/>
          <p:cNvSpPr/>
          <p:nvPr/>
        </p:nvSpPr>
        <p:spPr>
          <a:xfrm>
            <a:off x="250920" y="3573360"/>
            <a:ext cx="43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rzystając ze wzorów sinusa w trójkącie oraz z własności kąta środkowego i wpisanego, wiem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2"/>
              <p:cNvSpPr txBox="1"/>
              <p:nvPr/>
            </p:nvSpPr>
            <p:spPr>
              <a:xfrm>
                <a:off x="826920" y="5157720"/>
                <a:ext cx="148608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73" name="Picture 24" descr=""/>
          <p:cNvPicPr/>
          <p:nvPr/>
        </p:nvPicPr>
        <p:blipFill>
          <a:blip r:embed="rId1"/>
          <a:stretch/>
        </p:blipFill>
        <p:spPr>
          <a:xfrm>
            <a:off x="4788000" y="1773360"/>
            <a:ext cx="362736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0066"/>
                </a:solidFill>
                <a:latin typeface="Arial"/>
              </a:rPr>
              <a:t>Dowód cz.3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Picture 10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3024000" cy="24321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2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11"/>
              <p:cNvSpPr txBox="1"/>
              <p:nvPr/>
            </p:nvSpPr>
            <p:spPr>
              <a:xfrm>
                <a:off x="611280" y="1197000"/>
                <a:ext cx="182880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Rectangle 14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13"/>
              <p:cNvSpPr txBox="1"/>
              <p:nvPr/>
            </p:nvSpPr>
            <p:spPr>
              <a:xfrm>
                <a:off x="539640" y="2276640"/>
                <a:ext cx="182880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γ</m:t>
                    </m:r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Rectangle 16"/>
          <p:cNvSpPr/>
          <p:nvPr/>
        </p:nvSpPr>
        <p:spPr>
          <a:xfrm>
            <a:off x="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15"/>
              <p:cNvSpPr txBox="1"/>
              <p:nvPr/>
            </p:nvSpPr>
            <p:spPr>
              <a:xfrm>
                <a:off x="539640" y="2852640"/>
                <a:ext cx="16480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Text Box 17"/>
          <p:cNvSpPr/>
          <p:nvPr/>
        </p:nvSpPr>
        <p:spPr>
          <a:xfrm>
            <a:off x="468360" y="3933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18"/>
              <p:cNvSpPr txBox="1"/>
              <p:nvPr/>
            </p:nvSpPr>
            <p:spPr>
              <a:xfrm>
                <a:off x="900000" y="4508640"/>
                <a:ext cx="511200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1:22:23Z</dcterms:created>
  <dc:creator>_foxx</dc:creator>
  <dc:description/>
  <dc:language>en-US</dc:language>
  <cp:lastModifiedBy>AP</cp:lastModifiedBy>
  <dcterms:modified xsi:type="dcterms:W3CDTF">2015-04-07T03:35:13Z</dcterms:modified>
  <cp:revision>14</cp:revision>
  <dc:subject/>
  <dc:title>Twierdzenie sinusów</dc:title>
</cp:coreProperties>
</file>